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6C886-EFA6-40B0-ACB7-20002765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599CF-7183-43FC-9D05-EAB8E1AC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9D32-D2C6-4523-BC65-8D98B975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43121-6286-4BF6-955A-6926BED0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324C-C6F7-4134-9FAC-AB5D41FA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1DB4-C79C-449A-8213-CE27C681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39DC-7823-417F-9931-F23DEDC2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5CEB-D9D2-4447-ADC3-C191AD0A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520B-A562-4C61-A5A5-F46A5E7F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0B42-86CA-4230-B620-F5967A03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15B1-5811-4F83-BABA-8E43E52E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F666-AAF3-481A-89E1-B0C27890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7682-DFED-4552-9678-25DEF7AC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2886-1E8B-4DF1-9609-77D0ED99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24F5-1FFA-4C9C-8F60-8143CD16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9E6B-AACA-4A55-9367-80501263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BC19-8871-451C-98A5-57ADBF49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812AA-EC30-4B86-8A38-879599E4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244B1-3C08-434F-8D6E-8A806B52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305D-6E95-4ECE-B125-AD4EEF4E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7153-8359-48BA-A84B-21D75E09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4BD69-2706-4CA6-837C-B3A9B90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C52E-FEFA-441F-8932-D7383AA4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A3B4-9C3A-4634-A8D7-181EA3E0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D558-EFEF-4D29-99AF-64E3C5545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616B-AAAA-457C-9168-5FD81BA19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Cipher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iphertext (or the plaintext segment which was just enciphered) as the key for the next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2E2A0-F0FB-4DA0-A0D8-51640C678A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72520" y="321624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autokey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756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7756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1072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709640" y="3292560"/>
            <a:ext cx="152640" cy="3808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072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4424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166840" y="3368160"/>
            <a:ext cx="228600" cy="304920"/>
          </a:xfrm>
          <a:prstGeom prst="line">
            <a:avLst/>
          </a:prstGeom>
          <a:ln w="936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B998-0651-4C2E-866D-EE14BCCB0E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3T04:10:17Z</dcterms:modified>
  <cp:revision>59</cp:revision>
  <dc:subject/>
  <dc:title>CAP Cryptographic Analysis Program</dc:title>
</cp:coreProperties>
</file>